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8FB-8F86-4CB3-849A-FA44D917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188-12D7-42C0-8716-FCEFDEE5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430-287E-438A-A10A-907E887D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DF3-5FC1-4EB9-AE61-8018D040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89DD-57BD-4BF9-934C-D6EF2E95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0C93-9837-4CA2-8B16-2F522C1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4E2C-7238-4164-9608-96A1273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76CC-42A5-40CE-B60B-41E739A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F24A-BDAC-466B-A862-7EB773F7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568A-629C-481C-BF37-DA16000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7577-42AA-4A89-81AD-C92C40F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E18-089B-4AD2-A828-B095B756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2A1F-52FE-43D8-B664-C230C6F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5F6E-FD11-4411-BBC0-76BBB25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92B5-6DD7-4F57-AD63-55660AE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DA05-A32A-4C00-B0AB-3067A48D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44F-3EF1-4CE4-9023-68032326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482-1BBA-4892-8A66-938BE653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F22-624C-4C0B-B5A2-3D0FFB6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444-857D-4E66-A269-DD68F0B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B72-D788-4065-98CC-C4584B9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56C-3A63-4B59-A796-E245007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EAE-E0A6-4668-B86E-CD2E898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F98-3D15-40BB-B2E8-35577518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E752-13B7-4D2A-A333-4C83B0139B9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A76-4F38-414B-898F-50986C4E49F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ew Supervisor: 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kills for Suc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elley School of Busin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cussion #8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rla Letsc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efore selling your dec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nformation should be provide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medium will be the most effectiv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 my presentation phrased in language that will gain support for the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negative responses might I receiv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en and how will I pres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questions are likely to come up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ll your decisions to the following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mediate supervis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ther supervisors that need to be inform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mployee affected by the dec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mployees indirectly affect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manage change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termine the method for introducing and selling the change to your te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reak the change down into smaller step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 a contingency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itor the implementation of the change, including results and behavio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cept and plan for the results of chan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ll the ch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esent the change to employees in clear and specific langua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ut your ideas in a positive, constructive l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ress your willingness to help employees adap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sk employees how they plan to deal with 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f change has unintended results, be open to revie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naging Your Ti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re some timewaster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8280" y="2789280"/>
            <a:ext cx="48006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w to manage your ti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ioritize your 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ssess how you are currently spending your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do lis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lan your tasks dai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aluate time management several times during the 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cation Ski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esent one idea at a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Keep it sim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ke it brie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ersonalize it to the other pers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e the right tone of voice and body langua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et acceptance of each id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spond to the emotions of the pers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ppreciate your listener’s concer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courage listeners to express themsel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eps to improve listening ski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sk ques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entrate – stay foc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dentify the main ide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en for the ration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en for ke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ganize in your mi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ke no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2514600"/>
            <a:ext cx="23065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le of the Facilitat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y calm – don’t take sid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eep on the agend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rt and end the meeting on 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ourage particip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62720" y="3949560"/>
            <a:ext cx="2819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aise with a reas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an what you s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your prai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mediately after the ev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ublic or priva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93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does the company expect from supervisor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y aware of the big pic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 a productive environment for your employe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ke decisions on your 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plement new programs and metho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form your people about company policies and procedur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 effective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riticis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 it as quickly as you can after discovering the probl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imit comments to the person’s actions in this situ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t them do some of the talk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 consider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n’t mix criticism with prai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n’t play psychiatri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ke it priv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ive Delegation Ski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proves productiv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concentrate on supervisory responsibil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velops skills in oth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e job satisfaction for employe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lps evaluate peop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w to delegate better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early define what you want your employees to d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ourage people to learn and make their own deci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n’t take an assignment back after you’ve delegated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52880" y="47498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w to deal with the needs of your employees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 courteous, friendly and interest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ffer assistance when need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en patient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bserve their work and give them feedbac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ke goals reasonab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2895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do employees want from their job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ppreci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volvement with the compa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fortable work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8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43800" y="1523880"/>
            <a:ext cx="119844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140184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114800" y="4890960"/>
            <a:ext cx="297180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else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urity and stabil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nee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depende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2120" y="4583160"/>
            <a:ext cx="3429000" cy="2274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34280" y="4114800"/>
            <a:ext cx="18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valuation Ques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Use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a. Strongly 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b. 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c. Dis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d. Strongly dis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e. Don’t know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 found the presentation of material easy to underst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s discussion session increased my knowledge on the subject presente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 will be able to use some of the information from this discussion session in the futur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presenter was well prepared for this discussion sess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s presentation should be repeated in future semest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Role of the Supervis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tting go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monstrating effective behavio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cision-mak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naging Chan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ime Managem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munication Skil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ffective Meeting Skil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leg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raining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162216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t personal and professional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down your go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cuss with your supervisor and your te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view of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ake action to get ideas and plans accept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et employee suppor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vince your supervisor and senior manag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447660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ive behavi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tie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ler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nsitiv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ven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nse of hum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4720" y="1905120"/>
            <a:ext cx="296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 truly open-mind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void taking sid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ognize your own b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n’t let titles or prestige influence your deci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void absolute wordings in your deci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83160" y="609480"/>
            <a:ext cx="2714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estions to ask before making a dec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 I have enough information to make a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would be the worst possible result if I make that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 I need to make a decision at this tim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m I the best person to make the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n’t be afraid to take a ris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ke that tough dec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lieve in it and promote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ll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29160" y="3200400"/>
            <a:ext cx="2732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5:42:12Z</dcterms:created>
  <dc:creator>InterArt, Inc.</dc:creator>
  <dc:description/>
  <dc:language>en-US</dc:language>
  <cp:lastModifiedBy>aalegler</cp:lastModifiedBy>
  <dcterms:modified xsi:type="dcterms:W3CDTF">2005-02-10T21:21:30Z</dcterms:modified>
  <cp:revision>49</cp:revision>
  <dc:subject/>
  <dc:title>New Supervisor:   Skills for Success</dc:title>
</cp:coreProperties>
</file>