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2.png" ContentType="image/png"/>
  <Override PartName="/ppt/media/image7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10C-F891-489B-B695-F685EF96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DCC-7C70-4190-8ED9-8FDA977F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3C7-66DC-44B7-8239-02374140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33E-BC0E-4F13-878B-EDBD0697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E6F8-0AC9-45AB-BCED-B12A7273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CA9E-3FD5-4C86-865D-3F6F4A0F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5B3A-C5D2-4DCF-BBD8-94EDDA3D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C2CE-CE49-4D0B-A231-13F1652E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4A28-7AF7-4203-8A36-FD3065E9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87EF-1A62-4FAB-9DB0-D4D75E63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0B65-C666-48E1-811D-2D60D6E9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5F6-42A8-4E8F-94F9-2E467FA2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937C-0150-45F8-AD10-A8BDBB49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B678-31AE-4AEA-AD61-606640C4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6625-6B48-4900-9613-4AA7052B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29AA-E60D-4C37-A354-3CF87FE8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01B3-18A8-4EB1-B970-3264AC44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916-16EE-4266-8325-83C527B4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9FA-E9F1-402E-843D-30508181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CAA-E2B7-43DE-9F25-9887AAEB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04B-D5CA-4FCC-86D8-9BABAEA5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0E9-660E-4867-BEAC-BD27C6BF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109-BA91-4BED-9F37-C6947D1E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941-F1F1-4D71-B8F6-F15017D8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89CD-D260-4F61-A314-1693F601A80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5F67-2995-4B6E-9C12-0C1F61FF281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ew Supervisor: 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kills for Suc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41911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elley School of Busin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scussion #85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rla Letsc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efore selling your deci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nformation should be provide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medium will be the most effectiv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s my presentation phrased in language that will gain support for the decis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negative responses might I receiv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en and how will I presen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questions are likely to come up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ll your decisions to the following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mmediate supervis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ther supervisors that need to be inform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mployee affected by the decis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mployees indirectly affect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 manage change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termine the method for introducing and selling the change to your tea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reak the change down into smaller step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reate a contingency pl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nitor the implementation of the change, including results and behavio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cept and plan for the results of chan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ll the chan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esent the change to employees in clear and specific languag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ut your ideas in a positive, constructive li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ress your willingness to help employees adap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sk employees how they plan to deal with i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f change has unintended results, be open to review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naging Your Ti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are some timewaster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38280" y="2789280"/>
            <a:ext cx="48006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w to manage your tim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ioritize your wor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ssess how you are currently spending your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do lis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lan your tasks dai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aluate time management several times during the 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munication Skil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esent one idea at a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Keep it sim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ke it brief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ersonalize it to the other pers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e the right tone of voice and body languag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et acceptance of each ide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spond to the emotions of the pers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ppreciate your listener’s concer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courage listeners to express themselv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eps to improve listening skil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sk ques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entrate – stay focus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dentify the main ide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sten for the ration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sten for key wo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ganize in your mi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ke no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48520" y="2514600"/>
            <a:ext cx="23065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ole of the Facilitat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ay calm – don’t take sid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eep on the agend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art and end the meeting on ti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ourage particip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62720" y="3949560"/>
            <a:ext cx="2819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aise with a reas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an what you s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lance your prais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mmediately after the ev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ublic or priva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72200" y="1905120"/>
            <a:ext cx="293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does the company expect from supervisor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ay aware of the big pic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reate a productive environment for your employe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ke decisions on your 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mplement new programs and metho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form your people about company policies and procedur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ach effective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riticis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o it as quickly as you can after discovering the probl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imit comments to the person’s actions in this situ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t them do some of the talk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e considera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on’t mix criticism with prai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on’t play psychiatri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ke it priva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ive Delegation Skil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mproves productiv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n concentrate on supervisory responsibilit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velops skills in oth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e job satisfaction for employe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lps evaluate peop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w to delegate better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early define what you want your employees to d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ourage people to learn and make their own decis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on’t take an assignment back after you’ve delegated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52880" y="4749840"/>
            <a:ext cx="35053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w to deal with the needs of your employees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 courteous, friendly and interest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ffer assistance when need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sten patient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bserve their work and give them feedbac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ke goals reasonab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10080" y="4648320"/>
            <a:ext cx="2895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do employees want from their job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ppreci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cogni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volvement with the compan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mfortable work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162920" y="3733920"/>
            <a:ext cx="181440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543800" y="1523880"/>
            <a:ext cx="119844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1401840" cy="2133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114800" y="4890960"/>
            <a:ext cx="297180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else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urity and stabil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nee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depende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038480" y="4191120"/>
            <a:ext cx="3657600" cy="2666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2120" y="4583160"/>
            <a:ext cx="3429000" cy="2274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334280" y="4114800"/>
            <a:ext cx="180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valuation Question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Use: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a. Strongly agre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b. Agre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c. Disagre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d. Strongly disagre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e. Don’t know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 found the presentation of material easy to understan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is discussion session increased my knowledge on the subject presente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 will be able to use some of the information from this discussion session in the futur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presenter was well prepared for this discussion sessio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is presentation should be repeated in future semester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Role of the Supervis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etting goa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monstrating effective behavior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cision-mak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anaging Chang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ime Managem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ommunication Skil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ffective Meeting Skil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leg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raining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19920" y="2666880"/>
            <a:ext cx="1622160" cy="39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t personal and professional go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down your go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scuss with your supervisor and your tea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view oft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43400" y="41911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ake action to get ideas and plans accept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327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et employee suppor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vince your supervisor and senior manage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4476600"/>
            <a:ext cx="3333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ive behavi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tie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ler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nsitiv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mpath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isiven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nse of hum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84720" y="1905120"/>
            <a:ext cx="296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 truly open-mind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void taking sid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cognize your own bi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on’t let titles or prestige influence your decis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void absolute wordings in your decis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83160" y="609480"/>
            <a:ext cx="2714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estions to ask before making a deci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o I have enough information to make a decis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would be the worst possible result if I make that decis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o I need to make a decision at this time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m I the best person to make the decis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on’t be afraid to take a risk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ke that tough decis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lieve in it and promote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ll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29160" y="3200400"/>
            <a:ext cx="2732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0T15:42:12Z</dcterms:created>
  <dc:creator>InterArt, Inc.</dc:creator>
  <dc:description/>
  <dc:language>en-US</dc:language>
  <cp:lastModifiedBy>aalegler</cp:lastModifiedBy>
  <dcterms:modified xsi:type="dcterms:W3CDTF">2005-02-10T21:21:30Z</dcterms:modified>
  <cp:revision>49</cp:revision>
  <dc:subject/>
  <dc:title>New Supervisor:   Skills for Success</dc:title>
</cp:coreProperties>
</file>